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13B-ED87-4C2E-981C-FE81C28A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194-7C1E-4761-AD75-FDAB1D0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D07-313E-4E21-8B26-A551740E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1B7-AC7B-45B7-B0A1-30F089C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01D-AD5A-4775-93AE-F5725CE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22E-BBE4-4135-A75E-921603FE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BB1-320E-47E0-97AC-77979228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A10-8B91-464A-8DAC-4008E7C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7CD-02C5-47BF-8D79-90FF8A75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B39-AF8A-4F95-80DA-E345E72C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E2C-05FE-4201-B26C-9C79C94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41A-AC16-42A0-AB7B-28DAD0D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FAC-079C-4D6D-A128-5F8D4974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Земля, я болен твоей болью, я ранен раною твоей»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Э. Дзы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ыкально-литературная композиция, посвящённая 65-летию Победы в Великой Отечественной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37688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мятни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колаю Майор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3856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ражаюсь, верую, люблю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. Аса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38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915840"/>
            <a:ext cx="77724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46240" y="0"/>
            <a:ext cx="50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798480"/>
            <a:ext cx="76960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387680" cy="579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489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улат Окудж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73520" y="1371600"/>
            <a:ext cx="4470480" cy="548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3978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6477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ргий Су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9-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ксей Леб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2-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тых Кар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9-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ван Р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3-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лай Май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9-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890640"/>
            <a:ext cx="83055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ростая санитарка» на войне и талантливая поэтесса Юлия Дру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745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197000"/>
            <a:ext cx="71625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локадный Ленин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787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льга Бергголь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057920" cy="5410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852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573120"/>
            <a:ext cx="78483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, в котором жила О. Берггольц в блокадном Ленингра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648320" cy="456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562200" y="2343240"/>
            <a:ext cx="55818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вардии лейтенант, поэ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еоргий Сув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9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49640" y="399960"/>
            <a:ext cx="48718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8001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3680" y="380880"/>
            <a:ext cx="4559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4237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99160" y="2854440"/>
            <a:ext cx="43448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74304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58960" y="190440"/>
            <a:ext cx="41641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3962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андир взвода бронебойщиков Георгий Суворов погиб 13 февраля 1943 года при переправе через р. Нар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102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1787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тарский поэт Фатых Ка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89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581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. Карим погиб 19 февраля 1945 года на подступах к Кёнигсбер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35560" y="0"/>
            <a:ext cx="47084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чь возлагает цветы к могиле Ф. Кар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4-01-21T15:28:1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